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F658-6F6A-4B3D-8167-2E0FFE438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21DB-7A7E-4DCB-A7ED-193CED5F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F946-18A2-41A6-AF49-27A916211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D37A-A7EC-4D27-8BCF-4F2AD5163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10BB00-BAF1-4776-B3A2-524EBDB03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A5857-69B2-4DAD-A2CB-2BE175FC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E40BD8-E20E-4871-ADF2-F5498F2C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F2D2AF-915C-43AC-BDF3-5EC61517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8ECCB-6698-4DD4-8C36-4290649F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42C7C-9B4A-4801-986B-F1812311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7FD46-78F4-4A22-A126-4E9D33CB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2633-8995-456A-9759-1F727E7E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384E6F-4A18-4A73-AE63-C5D96F9B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145CDB-F122-4F54-A1FE-E9C98A12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6F8F41-BD7F-4571-BE71-256107E2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C3CFD-9818-4BF6-AEC3-7EAE7CAB2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EC824-F9F8-4591-90FE-50774C67F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CDAEC-7726-4D6A-8CFE-04E7083CE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1F022-EE06-4178-A8D8-A2289448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10F7A-DEE0-4022-BDBE-DD875CA4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A3535-F7F0-452F-9E08-4C2A8028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5CC83-D2A4-4761-B23A-792CA5C6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801E-94DE-408A-86EC-EA07CABD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F51E4-53D9-49DC-B08A-99996637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39D98-65D9-4DDA-9FF7-29378C55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C69C9-9F07-4BA2-96F4-39985C58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40DA9-DE10-4035-9F0A-3E2F4D4F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1DBE8-E044-4EDF-BA24-E336F57E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36354-30EA-4C18-AA81-C615964AC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0AC36-0F4B-4881-B15C-1E1113FAE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4B4956-34B1-48D2-ADF4-67C593A53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EB19BD-F747-45B9-9739-EBC4553A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151011-71FA-4D4D-B051-751E0431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2AB9-EF5D-44C4-B586-531559ED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E0A344-0B5D-4F16-9F25-B3F052E8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CA26C7-3E3E-408D-B35A-FB583CF9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41102C-B229-413D-B146-188E6956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291AC5-C025-4936-AE1C-8C1DF1AF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EB118C-23C4-4C34-8B20-6734A649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3F5179-3388-4110-A759-89A229CC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F7CC53-78A4-49FE-AFB6-9F9BA56E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A62121-6899-4D77-961E-FAB9A08F7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05AF2C-B36F-49EA-B592-0D589A575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B608-C99F-42A9-B716-C6CC0DEB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177A-AFD3-4CF2-BCF9-795E3660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B36E-991E-4C21-87C9-0DDE453C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E5E5-86DB-46DF-A08C-3C5C2171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8AA0-6F87-4693-A5DE-81A847FD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F10B-E38A-4827-8A3D-4CF3A5FC5AD4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D94F-E6B4-4986-B694-355BFA26FD62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1DAC-8B03-4EA5-8F76-9C57635F497E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0A4B-11BA-4131-AF0C-C47A983460F5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Title 1" descr=""/>
          <p:cNvPicPr/>
          <p:nvPr/>
        </p:nvPicPr>
        <p:blipFill>
          <a:blip r:embed="rId1"/>
          <a:stretch/>
        </p:blipFill>
        <p:spPr>
          <a:xfrm>
            <a:off x="530280" y="1444680"/>
            <a:ext cx="831528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Title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0070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An alternator is an electromechanical device that converts mechanical energy to alternating current electrical energy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070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In principle, any AC electrical generator can be called an alternator. Generally large alternators in power stations which are driven by steam turbines are called turbo-alternators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2" name="Title 2" descr=""/>
          <p:cNvPicPr/>
          <p:nvPr/>
        </p:nvPicPr>
        <p:blipFill>
          <a:blip r:embed="rId1"/>
          <a:stretch/>
        </p:blipFill>
        <p:spPr>
          <a:xfrm>
            <a:off x="244440" y="146160"/>
            <a:ext cx="84488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Content Placeholder 1" descr=""/>
          <p:cNvPicPr/>
          <p:nvPr/>
        </p:nvPicPr>
        <p:blipFill>
          <a:blip r:embed="rId1"/>
          <a:stretch/>
        </p:blipFill>
        <p:spPr>
          <a:xfrm>
            <a:off x="298440" y="1474920"/>
            <a:ext cx="8516880" cy="4627440"/>
          </a:xfrm>
          <a:prstGeom prst="rect">
            <a:avLst/>
          </a:prstGeom>
          <a:ln w="0">
            <a:noFill/>
          </a:ln>
        </p:spPr>
      </p:pic>
      <p:pic>
        <p:nvPicPr>
          <p:cNvPr id="174" name="Title 2" descr=""/>
          <p:cNvPicPr/>
          <p:nvPr/>
        </p:nvPicPr>
        <p:blipFill>
          <a:blip r:embed="rId2"/>
          <a:stretch/>
        </p:blipFill>
        <p:spPr>
          <a:xfrm>
            <a:off x="298440" y="146160"/>
            <a:ext cx="83948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fff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TATOR: The Stationary part of the alternator which carries the armature winding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ffff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ROTOR: The Rotating part of the alternator which carries the field winding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6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Content Placeholder 3" descr="alternator212.jpg"/>
          <p:cNvPicPr/>
          <p:nvPr/>
        </p:nvPicPr>
        <p:blipFill>
          <a:blip r:embed="rId1"/>
          <a:stretch/>
        </p:blipFill>
        <p:spPr>
          <a:xfrm>
            <a:off x="1231920" y="1468440"/>
            <a:ext cx="6680160" cy="9345600"/>
          </a:xfrm>
          <a:prstGeom prst="rect">
            <a:avLst/>
          </a:prstGeom>
          <a:ln w="0">
            <a:noFill/>
          </a:ln>
        </p:spPr>
      </p:pic>
      <p:pic>
        <p:nvPicPr>
          <p:cNvPr id="178" name="Title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Content Placeholder 3" descr="alternator-cutaway.gif"/>
          <p:cNvPicPr/>
          <p:nvPr/>
        </p:nvPicPr>
        <p:blipFill>
          <a:blip r:embed="rId1"/>
          <a:stretch/>
        </p:blipFill>
        <p:spPr>
          <a:xfrm>
            <a:off x="1279440" y="1511280"/>
            <a:ext cx="6284880" cy="46083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Content Placeholder 1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627440"/>
          </a:xfrm>
          <a:prstGeom prst="rect">
            <a:avLst/>
          </a:prstGeom>
          <a:ln w="0">
            <a:noFill/>
          </a:ln>
        </p:spPr>
      </p:pic>
      <p:pic>
        <p:nvPicPr>
          <p:cNvPr id="182" name="Title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fff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-language is the most versatile and popular computer language because it is a structured, high level and machine independent language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ffff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Programs written in C are efficient and fast. C has its ability to extend itself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ffff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Design of Turbo-Alternator using C-language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4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Alternator is the primary source of all the electrical energy that we consume and is the largest energy converter found in the world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Here in this project effort will be made to design a Turbo-Alternator using C-language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6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4:13:38Z</dcterms:created>
  <dc:creator/>
  <dc:description>Electrical Projects</dc:description>
  <dc:language>en-US</dc:language>
  <cp:lastModifiedBy>Brigade</cp:lastModifiedBy>
  <dcterms:modified xsi:type="dcterms:W3CDTF">2011-08-24T06:35:43Z</dcterms:modified>
  <cp:revision>0</cp:revision>
  <dc:subject>Electrical Projects</dc:subject>
  <dc:title>EEE IEEE Projects</dc:title>
</cp:coreProperties>
</file>